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496-4213-4D68-88EE-B0E3665D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699-CA33-43F8-AF30-041438EB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3CB-4A07-4440-9159-00378A50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6A6-83B2-4A11-A59D-A9653D4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892-EC06-4F5D-A175-C3F50F7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125-083A-4DD6-89DC-0392523D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986-5A3D-4BF8-A56D-8F68B84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A0F-5E95-4029-BA62-36AA868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5F6-65D8-4E9F-AD53-18DCE688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5DB-F77F-422B-8627-7B006EB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665-C856-4CEB-8F5B-41B374A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B74-C86E-42FA-8812-3FC5E30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31685-1AE4-4A68-86E3-0B2A14C47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.3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G. Project Venon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S cracked SU sp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essages between Moscow and US read; &gt; 3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= confirmation spying exi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vealed 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H. The Red Scare Spread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ther groups begin to investigate for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Taft-Hartley Act,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Lesson Objective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students will be able to explain the Red S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students will be able to discuss McCarthyism and it's effects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students will be able to explain how the Cold War affected America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. New Red Scar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gan September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gor Gouz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Revealed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Sovi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Main goal: Inf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. Loyalty Review Progra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ablished in 1947 by 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l federal employees scre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ore than 6 mil employees scre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14,000 employees were subject to investigation by the F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. House of Un-American Activities Committee (HUAC)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rmed in 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osed both Communists and Communist sympath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BI agents sent into different groups and phones wiret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D. Hollywood on Tria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irst HUAC hearing took on film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onald Reagan testified that Communists were in Holly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“Hollywood T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id not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lacklisted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llyw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45036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3440" y="122400"/>
            <a:ext cx="9917280" cy="74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. Alger His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ccused of spying for Sovie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nvicted of perjury; sent to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ursued by congressman Richar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F. The Rosenberg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embers of American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nvicted of giving info to SU re: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ecuted by electro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29200" y="1603440"/>
            <a:ext cx="45720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8:02:49Z</dcterms:created>
  <dc:creator>Courtney Huro</dc:creator>
  <dc:description>Presentation Layout Template</dc:description>
  <dc:language>en-US</dc:language>
  <cp:lastModifiedBy>School District U46</cp:lastModifiedBy>
  <dcterms:modified xsi:type="dcterms:W3CDTF">2011-02-24T13:25:25Z</dcterms:modified>
  <cp:revision>4</cp:revision>
  <dc:subject/>
  <dc:title>Technical Polygon</dc:title>
</cp:coreProperties>
</file>